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919E-0BE3-4CFC-9B27-D34A3B11A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337-164A-47B0-A06D-1CEDEC84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7A9-931A-4837-A1B6-69C761A9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C462-FC5C-49E6-B122-5F2F59F9C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CE93-60FF-4D6D-92CF-13A9200A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9556-7871-4397-8787-22798FB0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389D3-6902-40D4-B22E-503C8CF2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84E0-60C3-4A74-9072-5873CA2D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BA2C-8815-4C2D-B569-E3EE01CE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FAB7-F294-44BF-BEF1-CD97A2B1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8E99-8085-4E0A-9D19-C143DD7B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119-FC0E-4F11-9298-84987531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CEA7-1850-4A1B-A173-8FC1ED7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9EA6F-0F09-486E-923C-9ED2E2CF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3CF8-C786-465D-BEAD-E190334B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AD6D-53C2-49D8-B1D5-DAC64FDA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28F2-5389-496E-AF9C-B343CE69A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7CF8-D340-4DBC-AC7F-70979206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5877-FFC1-47A6-BBA8-15337678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C04-3085-4BB8-BCAB-850BBE2B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1F60-8803-4285-881D-7565B71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574-B49A-4C47-A0CB-357BCA5E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1DC9-C22E-4B97-9988-738B550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638A-71A9-48AA-9BCF-41EC1CD5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1121C6-4195-48FE-90E1-C2FBD31E5B9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58C11-E393-4CF1-AED0-AD4124D9201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75D8BE-69F9-49B6-9EEC-26519526B05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AFF124-FC19-4785-854F-F7A4F5E2BE8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Get Started on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Rush/ Mr. Farrel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Start a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6" name="Macintosh HD:Users:Craig:Movies:Screenium:20110206-122918.mov" descr="/Users/Craig/Movies/Screenium/20110206-12291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How to Name your Wiki-World History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Macintosh HD:Users:Craig:Movies:Screenium:20110206-123414.mov" descr="/Users/Craig/Movies/Screenium/20110206-123414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Name your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me i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pshroder__________(your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2 in class have the same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, type wpshroderjosh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pshroderjoshw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eate 1</a:t>
            </a:r>
            <a:r>
              <a:rPr b="0" lang="en-US" sz="4600" spc="-1" strike="noStrike" baseline="30000">
                <a:solidFill>
                  <a:srgbClr val="2c7c9f"/>
                </a:solidFill>
                <a:latin typeface="News Gothic MT"/>
              </a:rPr>
              <a:t>s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page/ Invite to Joi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Macintosh HD:Users:Craig:Movies:Screenium:20110206-125822.mov" descr="/Users/Craig/Movies/Screenium/20110206-125822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pying Assignments to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Macintosh HD:Users:Craig:Movies:Screenium:20110206-130126.mov" descr="/Users/Craig/Movies/Screenium/20110206-130126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Embed a Dipit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Macintosh HD:Users:Craig:Movies:Screenium:20110204-162958.mov" descr="/Users/Craig/Movies/Screenium/20110204-16295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6T17:31:23Z</dcterms:created>
  <dc:creator>Craig Rush</dc:creator>
  <dc:description/>
  <dc:language>en-US</dc:language>
  <cp:lastModifiedBy>Craig Rush</cp:lastModifiedBy>
  <dcterms:modified xsi:type="dcterms:W3CDTF">2011-02-06T18:24:02Z</dcterms:modified>
  <cp:revision>4</cp:revision>
  <dc:subject/>
  <dc:title>How to Get Started on Wiki</dc:title>
</cp:coreProperties>
</file>